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C3CA-53BE-49FB-92E5-4318DD198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1388-3819-40F8-AF70-09EA2D576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FB00-CAD0-4686-8847-66575C3D9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8760-9849-466B-83F8-A3B363722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B25C-05B4-4CD9-913E-282173960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3D94-97AA-41CC-9C71-6E87B0258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8C19-528E-4527-806B-9A5941D0E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D8D0-B94C-4A6E-B513-54196CEFC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D8F1-2DBF-43A4-8826-DF0E96C90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EC10-8F61-4494-8BA0-3783FF82C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04B9-4924-4E70-BA6D-23252E4FC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8DEC-76AA-4646-81B0-7847DC326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9098-0D51-4056-9133-047DFCDD4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75EE-05F8-459E-9354-61A9EDC94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5A03-8942-4883-9A85-F3ECBCB29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A4D6-BC03-44A3-A755-6563DE359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7CE4-053F-4E52-B070-0912C86F1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A12A-7F00-440F-A45C-420FB3BEA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01D8-6EDD-4AB6-B237-F3E23689B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5729-272D-4B6F-87EA-A70A86C12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E308-51BC-461D-B124-9C00CC86D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6619-53B4-463C-A60D-8EB34FD15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2B75-55DA-475C-A0D3-B0CF44F9B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4674-52CE-49C2-A34E-9F33D9BD7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B43-C6D7-4FD7-97D9-FAE85DAD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116-13DB-4792-9D29-7D69AE92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6EC0-DD71-4E6A-AD2A-36E76978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53C3-82F7-45F2-9098-2FFBF094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5DCB-4CDA-46C1-8776-BB3EF552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509-93B9-4491-B5D6-85D7E229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14F-46B5-48C7-B52E-3AF07BDF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1DB-7519-471D-9EB0-0CD09D7E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D79-B394-4F5E-9794-97D1B69B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476-1E40-4DD2-AFC5-3500EFB2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9205-DCA6-4164-8D5F-C15AEDA9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1CC-3AB3-4677-A4C6-D7CE5D0F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21E4-DE91-4261-916B-E8FFA22769D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4.2/Hou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ll companies are already well understood to be a money laundering techniq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aundering technique is also used in the online world, primarily in an attempt to make transactions look more legit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s of funds transferred to shell companies tend to be larger than amounts transferred to/by individual m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are companies with no business activity, assets or liabilities, created solely for the purpose of holding bank acc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(or their bank accounts) are often located in foreign jurisdictions to the location of the predicate off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give a façade of legitimacy to the transfer from the payer’s ban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additional challenges arise when shell companies are used for online crime procee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y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reates a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opens a bank account in the name of the shell company in a foreign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onducts fraudulent activity and transfers funds from victim accounts into the bank account of the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ow value to be pre-associated with a payment car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wo typ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d prepaid cards: can only be used in a particular company or store (e.g. gift cards) and can be bought and used anonymous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prepaid cards: issued by a bank, credit card or other financial institution. Can be used just like any other payment c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ame typology applies to mobile phone top-up credit and pre-paid mobile phon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s obtain funds, e.g. through banking malwa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to a money m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withdraws cash and uses the cash to purchase prepaid c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ds are then used or sold. When sold, the cards are usually sold for less than f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gaming and online trading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gambling of various types onl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 funds are cashed in/cashed out via traditional banking sector (e.g. funds transfer, credit/debit card, etc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nsistent legal status and regulation of online gamb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bling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s and associates have multiple stolen credit cards to monet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holds a prepaid card (or other card where laundered funds are to be placed) and associates hold stolen credit car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log on to gambling platform and transfer funds to their gambling accou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enter (for example) a poker room toget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es deliberately lose to crimi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nings are transferred to criminal’s online gambling accou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transfers funds to the payment card in their possession, which is then used or sol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from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gaming and online trading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chases through the Intern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 Typ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acquires access to compromised card data or banking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purchases goods (e.g. airline ticket) using compromised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lists airline tickets for sale on online auction sit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meone wins the auction and sends payment to the crimin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sends airline tickets to winner of auc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5:22:48Z</dcterms:modified>
  <cp:revision>346</cp:revision>
  <dc:subject/>
  <dc:title>PowerPoint Presentation</dc:title>
</cp:coreProperties>
</file>